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FC8C-38FD-4903-83F5-1E5BA4611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60D8-DE59-4897-8F4B-4080695A9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F186-BAAF-49AF-95D9-07A6F4F49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4EED-7866-4A29-BFBF-F463CE79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963-CE0F-4958-8A5F-884F009BC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0EE6-CCCC-445D-B105-320B89CAA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B533-2812-4F99-AF59-7AA59E8F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6E4-F3E6-4A22-8FD3-404ABF95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89B7-7827-4B78-B7CD-0839743A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308D-9705-433F-83A9-B26ABF4C2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C844-CB38-4AB2-89F5-4205CA48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9E90-C505-4E86-93B7-E7CF0427F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91DA-8063-42C2-ACB9-CB52480D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C417-42A5-4558-9074-440C67759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B954-D831-4945-B0B6-02601D41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E0F8-34F4-47CE-83AD-3A9852B8D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4B47-0E76-41DF-AFDB-673EB3D45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684A-CA65-402A-AC2D-C04A6532B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2B17-E87F-40CF-B233-44A0C68ED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A1AF-1337-44DC-BD56-47ADECCEB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A4F7-3F7B-42EC-BD4E-CE42A03E7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5125-3BAB-4D23-B55B-3E076795A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3A11-2D06-4F4F-8C46-8826BFBF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87777-7268-4E57-9213-6FE2BB11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2B2-024B-4DBD-87FC-BCDE3321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C8E6-5A55-4536-9571-67E87CFE1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1616-DDB5-43E3-AFA5-4D889799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83D-29AC-4B90-A44E-8A88A53C4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89FE-9FDC-4ACD-BAAA-73E61F09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FFD2-1EF8-4BF5-839E-FF2CA7B5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3C79-CBE5-46C0-9952-38F4CB90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880F-C4DB-493D-8B33-C0A5F132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27F5-5EF3-45E4-9669-72681A25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BFA3-4798-4D08-8FA2-5DBC5DFF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9A42-B604-4C57-B8BD-68D9155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C265-FBE1-4699-AD5A-872C3F59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661D-4566-4447-B72C-9F91CDC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5857-521E-4FC3-8C5C-A9EE0F61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BBE-0E2A-40AA-B8DA-AB8DC675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0E33-D889-4478-B565-15B2F58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C868-943D-4192-8ADA-DD5EC3C5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8EAA-42C5-4C6A-9A1B-06505091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301C-B9EC-4A30-8642-E03581DF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F67F-5FF8-481A-8ED5-4F95D7ACB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4F7-A042-4746-885B-21939BB5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F92-4A7A-4691-9E6D-EE0979CC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3870-1132-4B7E-8E0A-5E83C1FC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7A1-671D-4B33-95A4-1299ADB1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7B5-3074-46DD-9D5B-3998A120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C76C-D4B5-4A97-8389-02DDF6C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C03-8AE8-43E6-A942-DA6DA381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F32A-3299-400A-B282-580836803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650A-6A34-45F6-900B-63E04D44E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nzyme Lab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-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6a.  How does the reaction rate in Part 4 differ with that in Part 2 for potato?  For liver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29718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faster in Part 4 for both the potato &amp; 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6b. Explain why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the smaller (crushed) pieces have a greater surface area of enzyme exposed to the peroxide = faster reac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a.  What general statement can you make about reaction rates &amp; temperatur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2758680"/>
            <a:ext cx="811044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is reaction, the warmer the temperature, the faster the reaction rate (up to a poi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b.  What does kinetic energy have to do with thi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 energy is the energy of motion- the increased temperature causes the molecules to move faster &amp; interact with each other more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609480"/>
            <a:ext cx="8915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c.  What was your predicted  reaction rate for 100 degrees Celsiu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2600" y="2836440"/>
            <a:ext cx="811044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7d. Did you results support your prediction?  Explai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2600" y="2292120"/>
            <a:ext cx="81104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; too much heat wi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natu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hange the shape) of an enzyme, making it 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a.  What is pH a measure of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2600" y="2292120"/>
            <a:ext cx="81104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cidic (lots of H+ ions) or basic (lots of OH- ions) a substan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b.  Which pH conditions reacted poorl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2600" y="2369880"/>
            <a:ext cx="81104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H (basic) and HCl (acidi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c.  Under what conditions did the enzyme work well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2600" y="2369880"/>
            <a:ext cx="81104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al (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d.  Would you say that enzymes are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specific or nonspecific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about the pH of the environment in which they must func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4465800"/>
            <a:ext cx="8110440" cy="16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- catalase only worked w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neutr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.  Define catalys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speeds up the rate of a reaction without being used up or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9a.  What temperature change occurs in the tube for Part  7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2600" y="2292120"/>
            <a:ext cx="81104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era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9b.  What caused this chang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2600" y="2215800"/>
            <a:ext cx="8110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reaction gave off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9c.  Would you say that the reaction of catalase and hydrogen peroxide is an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Arial"/>
              </a:rPr>
              <a:t>endothermic or exothermic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 reac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2600" y="3766680"/>
            <a:ext cx="81104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a.  Which gas is given off during this reaction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2600" y="2603160"/>
            <a:ext cx="811044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b.  Why do you think so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2447640"/>
            <a:ext cx="811044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owing splint flared up (burned brigh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c.  What substance is left in the test tube after the breakdown of hydrogen peroxide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2600" y="3146040"/>
            <a:ext cx="8110440" cy="29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10d.  Write a balanced equation for this reaction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2600" y="2369880"/>
            <a:ext cx="811044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atal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--------------&gt; 2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+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2.  How are enzymes &amp; catalysts similar?  Differen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th speed up reaction rates without being destroyed (same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are proteins produced by living cells whereas catalysts can be any chemical that speeds up reaction rates (a catalyst does not have to be a prote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3.  What substance used in Part 1 is a catalys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2525400"/>
            <a:ext cx="8110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ganese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4.  What source of enzyme gave a better reaction -- liver or potato?  Why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2215800"/>
            <a:ext cx="81104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contains more heme, which is attached to the protein part of cata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83908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a.  In Part 3, what are you really adding when you add more liver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2138040"/>
            <a:ext cx="81104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enzyme (catal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b.  Why does the reaction turn out as it did when more liver is add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2525400"/>
            <a:ext cx="811044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happened when fresh liver was added to the test tube because the peroxide was already broken down - there was nothing for the enzyme to act u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c.  What happens when more peroxide is added to the old liver + liqui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2836440"/>
            <a:ext cx="811044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ction occurred - the enzymes in the old liver broke down the fresh 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5d.  What do the results of this part of the experiment tell you about enzymes &amp; how they react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2914200"/>
            <a:ext cx="811044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zyme is not used up or destroyed during a reaction - it can be used over and over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3:48:33Z</dcterms:created>
  <dc:creator>NHS NPS</dc:creator>
  <dc:description/>
  <dc:language>en-US</dc:language>
  <cp:lastModifiedBy>NHS NPS</cp:lastModifiedBy>
  <dcterms:modified xsi:type="dcterms:W3CDTF">2015-12-16T19:48:16Z</dcterms:modified>
  <cp:revision>8</cp:revision>
  <dc:subject/>
  <dc:title>Enzyme Lab</dc:title>
</cp:coreProperties>
</file>